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7C77-3156-413C-A389-5BE2AA0A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27D3-6275-4F52-9095-98C8D585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18AB-59E1-479F-A6BB-DE3CB226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40A-FBD9-4FD8-B038-F3B43104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137-7D45-4D03-B0B9-A1839FAB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436-EAC7-40F1-B624-DD561ECB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79E-CF93-4771-BFA9-2794492A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810-A71E-4B20-B27A-A0C125F0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04A9-9191-4ED9-8289-7377F994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94E-3F08-479A-A2F2-956F4405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042-A867-4280-9252-7AB3E1FF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C149-22B9-4827-B016-45E77336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2027-F6CE-494E-AADC-AE3309B23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2.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One-Step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5040" y="2017800"/>
            <a:ext cx="65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olving Equations Using Addition and Sub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1272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37339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8600" y="4343400"/>
            <a:ext cx="8610480" cy="878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600200" y="4800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4800600"/>
            <a:ext cx="685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72400" y="4724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001000" cy="1226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7924680" cy="1017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0880" y="3429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457200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4572000"/>
            <a:ext cx="609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8880" y="45720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610840" cy="1260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" y="40384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8229600" cy="836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81080" y="4876920"/>
            <a:ext cx="1526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472428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72400" y="4800600"/>
            <a:ext cx="685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57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57150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317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7772400" cy="1246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0880" y="5029200"/>
            <a:ext cx="838224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81880" cy="1241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26200" y="5635800"/>
            <a:ext cx="140832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39440" cy="78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19051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05120"/>
            <a:ext cx="609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05920" y="1905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772400" cy="319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8080" y="3497400"/>
            <a:ext cx="716292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984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81080" y="1828800"/>
            <a:ext cx="3812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16765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24680" y="1828800"/>
            <a:ext cx="609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0556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984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76720" y="2209680"/>
            <a:ext cx="10666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1640" y="521820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640" y="6110280"/>
            <a:ext cx="660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: Solving Equations Using Multiplication and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5345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8:02:56Z</dcterms:created>
  <dc:creator>Susannah Graham</dc:creator>
  <dc:description/>
  <dc:language>en-US</dc:language>
  <cp:lastModifiedBy>grahams</cp:lastModifiedBy>
  <dcterms:modified xsi:type="dcterms:W3CDTF">2012-09-27T13:32:17Z</dcterms:modified>
  <cp:revision>5</cp:revision>
  <dc:subject/>
  <dc:title>Lesson 2.1 Solving Two-Step Equations</dc:title>
</cp:coreProperties>
</file>